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DE4-AB96-435E-9CDE-75E831D4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152-9B80-4656-A960-2F667E1D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60F-CBFD-48FA-87AB-6658AB45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F7A-ADD5-4E72-B29E-89351694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A11-1A99-49BC-B142-7BD420E5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5A7-6008-4A47-A307-72F9DE3A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BF7-762F-4A9E-83C0-A8711E2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3F3-CFC5-4D0F-8C00-54033E9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A294-7D66-4662-BE6E-E7F669B7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EC2C-EDBE-463B-9BBE-E5703B6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35C1-9554-45F1-BA30-B5EC7563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C35-A4A4-4E3A-893F-B31C6E43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C22C-02B5-42A7-A078-628BD8E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D7C7-B2BF-480F-9C25-29B3CF6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AA2E-547C-4692-9EE7-4082F0D1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C0A-FDD2-4AC3-92E1-7F484B4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72C-8071-47CC-A43A-7E800947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EDEF0-7E05-497C-B9AE-5A307B61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01134-03E7-48EF-9159-EC6BDEEF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CBA04-936A-4E4B-8290-3266457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AD827-295E-4803-B2FE-D2A7A4CB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5AF97-AC02-4E18-98AE-CD2808A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5F8-A81E-415C-B621-2EF91BF0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83F88-5BAD-44A0-93A3-9E6E30B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B7401-59BA-4271-B43C-64B3367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3DBC3-5AEB-4D51-A223-EEE0B4F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428D9-DB36-4146-B02E-A213485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FD91C-AF48-419B-BC6E-6A4B2E38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F8CED-BF58-490F-998C-BEAA974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50B8D-DB5B-4CCA-BFBA-C7329CF5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C05C-4C35-4F17-A3A4-4292C750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3BC3-741F-45DF-90B1-9386492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CB92-87C5-49F6-B7F2-95B35EB9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0EA-0C14-4E1F-B36A-7F4970A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3853-9901-40BE-9300-316D45A4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5CD0-3AB7-4CAE-A37C-E135AB2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E0A4-B9D1-4ECC-AB1D-86770867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5F12-4989-46AC-8277-88E5478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E946-A4B9-46BF-8AA3-00F4EC1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A52C-7C32-4B55-AEB4-865C666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C7F4-241F-4048-B99B-978A93D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C9C7-F940-4494-9D27-EA0EA085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41CD-0A92-4A80-BA62-A4FCA653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8D6-68EF-4027-AB48-8A490CC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5E8-FC82-45CE-99A5-F3F9EB5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BE8-9CDA-41E0-8A87-3306538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DC9-70E9-4D10-964E-11FB278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B19-D02A-4E29-AAC9-1D16AD5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2AA-F217-409D-89BD-FDE73E5AE10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792-B282-495A-939F-352D78826002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6460-4CAC-40A4-A634-C46112CF60B6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693-FE62-4015-B713-318E7674459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Do Now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Record the following prompt on you Do Now sheet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With a partner discuss: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What someone might say to refute or disprove your argument.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Record one thing you and your partner discussed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ntinue working on your pap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8</a:t>
            </a:r>
            <a:r>
              <a:rPr b="0" lang="en-US" sz="1800" spc="-1" strike="noStrike" baseline="30000">
                <a:solidFill>
                  <a:srgbClr val="424242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e67c8"/>
                </a:solidFill>
                <a:latin typeface="Arial Black"/>
              </a:rPr>
              <a:t>The Argumentative Essay</a:t>
            </a:r>
            <a:endParaRPr b="0" lang="en-US" sz="43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47560"/>
            <a:ext cx="80769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Uses evidence to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both 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 to refute the opposing argument.</a:t>
            </a:r>
            <a:endParaRPr b="0" lang="en-US" sz="4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1" name="Picture 5" descr="C:\Users\lgoodine\AppData\Local\Microsoft\Windows\Temporary Internet Files\Content.IE5\NZSFGQJ0\Web_Proof[1].jpg"/>
          <p:cNvPicPr/>
          <p:nvPr/>
        </p:nvPicPr>
        <p:blipFill>
          <a:blip r:embed="rId1"/>
          <a:srcRect l="19083" t="16849" r="15569" b="15442"/>
          <a:stretch/>
        </p:blipFill>
        <p:spPr>
          <a:xfrm>
            <a:off x="2895480" y="4114800"/>
            <a:ext cx="3505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1426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Counterclaim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47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67c8"/>
                </a:solidFill>
                <a:latin typeface="Arial"/>
              </a:rPr>
              <a:t>Use one paragraph for your counterclaim.  Also, 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Arial Black"/>
            </a:endParaRPr>
          </a:p>
        </p:txBody>
      </p:sp>
      <p:pic>
        <p:nvPicPr>
          <p:cNvPr id="345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762120" y="2514600"/>
            <a:ext cx="3659040" cy="3648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 claim made to offset or disprove another claim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2209680" y="3352680"/>
            <a:ext cx="49881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3712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chools should continue selling chocolate milk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hocolate milk has a lot of added suga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2" name="Picture 3" descr="C:\Users\lgoodine\AppData\Local\Microsoft\Windows\Temporary Internet Files\Content.IE5\NZSFGQJ0\8ozRoundBottles[1].jpg"/>
          <p:cNvPicPr/>
          <p:nvPr/>
        </p:nvPicPr>
        <p:blipFill>
          <a:blip r:embed="rId1"/>
          <a:stretch/>
        </p:blipFill>
        <p:spPr>
          <a:xfrm>
            <a:off x="2133720" y="4114800"/>
            <a:ext cx="5105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Physical education should be required by students everyday in school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Requiring physical education every day will make it more difficult for students to take other elective class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5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4648320"/>
            <a:ext cx="8077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Goodine, Lindsey</cp:lastModifiedBy>
  <cp:lastPrinted>2015-02-13T12:44:39Z</cp:lastPrinted>
  <dcterms:modified xsi:type="dcterms:W3CDTF">2015-02-13T12:54:54Z</dcterms:modified>
  <cp:revision>10</cp:revision>
  <dc:subject/>
  <dc:title>Writing Part 4:   Argument Writing</dc:title>
</cp:coreProperties>
</file>